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7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53E-507F-4E70-9AE6-9A31049D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548-397F-44E4-8C72-B1FC5DD6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11B-4615-4CD4-B65B-1806EBE5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509-4ADC-4EA7-90B7-3C1555D3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531-0A8E-49AD-AD70-27EB86F3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F5F-58A2-4AC4-B0B8-13A5D86D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C49-234B-4431-8C7C-56E1A219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630-5E57-4B57-89A8-BACB827C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94A-D870-4E18-BFC1-AC4C7C8A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D4F-D39D-4766-BD7F-BA3B8AF2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412-F9C1-4CF1-ABA6-A40DB1D2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0D2-A9F0-47B7-AACB-4E6C6C01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5625-405A-46AC-B686-BEF7390AF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hyperlink" Target="http://www.21cnjy.com/2/119498/" TargetMode="External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4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79" name="矩形 4"/>
          <p:cNvSpPr/>
          <p:nvPr/>
        </p:nvSpPr>
        <p:spPr>
          <a:xfrm>
            <a:off x="2556000" y="109692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剪窗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2" descr=""/>
          <p:cNvPicPr/>
          <p:nvPr/>
        </p:nvPicPr>
        <p:blipFill>
          <a:blip r:embed="rId3"/>
          <a:stretch/>
        </p:blipFill>
        <p:spPr>
          <a:xfrm>
            <a:off x="4643280" y="2492280"/>
            <a:ext cx="30974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3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4"/>
          <a:stretch/>
        </p:blipFill>
        <p:spPr>
          <a:xfrm>
            <a:off x="6292800" y="8031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5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6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7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8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9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10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1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2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3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4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5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512720" y="1652760"/>
            <a:ext cx="4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300560" y="160668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717560" y="3056040"/>
            <a:ext cx="7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6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946760" y="259884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749920" y="35402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6620040" y="1077840"/>
            <a:ext cx="8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982880" y="6332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865600" y="2157480"/>
            <a:ext cx="72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8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9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20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984400" y="117468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448400" y="1719360"/>
            <a:ext cx="12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1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2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3"/>
          <a:stretch/>
        </p:blipFill>
        <p:spPr>
          <a:xfrm>
            <a:off x="6303960" y="2622600"/>
            <a:ext cx="1120680" cy="1141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6745320" y="2990880"/>
            <a:ext cx="9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126280" y="2933640"/>
            <a:ext cx="4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17360" y="156852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808080" y="3117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7" descr="未命名3"/>
          <p:cNvPicPr/>
          <p:nvPr/>
        </p:nvPicPr>
        <p:blipFill>
          <a:blip r:embed="rId24"/>
          <a:stretch/>
        </p:blipFill>
        <p:spPr>
          <a:xfrm>
            <a:off x="5394240" y="1582560"/>
            <a:ext cx="935280" cy="95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9"/>
          <p:cNvSpPr/>
          <p:nvPr/>
        </p:nvSpPr>
        <p:spPr>
          <a:xfrm>
            <a:off x="5664240" y="184644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512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了哪些科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94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95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96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101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102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107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113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114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119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120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121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乐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26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27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语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32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33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38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39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矩形 619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324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5" name="矩形 2"/>
          <p:cNvSpPr/>
          <p:nvPr/>
        </p:nvSpPr>
        <p:spPr>
          <a:xfrm>
            <a:off x="3829320" y="13082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连一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" descr=""/>
          <p:cNvPicPr/>
          <p:nvPr/>
        </p:nvPicPr>
        <p:blipFill>
          <a:blip r:embed="rId3"/>
          <a:stretch/>
        </p:blipFill>
        <p:spPr>
          <a:xfrm>
            <a:off x="900000" y="2166840"/>
            <a:ext cx="7632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50" name="矩形 3"/>
          <p:cNvSpPr/>
          <p:nvPr/>
        </p:nvSpPr>
        <p:spPr>
          <a:xfrm>
            <a:off x="292860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19"/>
          <p:cNvSpPr/>
          <p:nvPr/>
        </p:nvSpPr>
        <p:spPr>
          <a:xfrm rot="5400000">
            <a:off x="1069200" y="29408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七角星 14"/>
          <p:cNvSpPr/>
          <p:nvPr/>
        </p:nvSpPr>
        <p:spPr>
          <a:xfrm>
            <a:off x="496800" y="42181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七角星 15"/>
          <p:cNvSpPr/>
          <p:nvPr/>
        </p:nvSpPr>
        <p:spPr>
          <a:xfrm>
            <a:off x="3397320" y="4307040"/>
            <a:ext cx="110952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七角星 16"/>
          <p:cNvSpPr/>
          <p:nvPr/>
        </p:nvSpPr>
        <p:spPr>
          <a:xfrm>
            <a:off x="1649520" y="4197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七角星 17"/>
          <p:cNvSpPr/>
          <p:nvPr/>
        </p:nvSpPr>
        <p:spPr>
          <a:xfrm>
            <a:off x="4591080" y="4307040"/>
            <a:ext cx="11620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七角星 20"/>
          <p:cNvSpPr/>
          <p:nvPr/>
        </p:nvSpPr>
        <p:spPr>
          <a:xfrm>
            <a:off x="6243480" y="42148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七角星 21"/>
          <p:cNvSpPr/>
          <p:nvPr/>
        </p:nvSpPr>
        <p:spPr>
          <a:xfrm>
            <a:off x="7351560" y="41972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23"/>
          <p:cNvSpPr/>
          <p:nvPr/>
        </p:nvSpPr>
        <p:spPr>
          <a:xfrm rot="5400000">
            <a:off x="6824880" y="508536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24"/>
          <p:cNvSpPr/>
          <p:nvPr/>
        </p:nvSpPr>
        <p:spPr>
          <a:xfrm rot="5400000">
            <a:off x="1158120" y="508572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燕尾形 25"/>
          <p:cNvSpPr/>
          <p:nvPr/>
        </p:nvSpPr>
        <p:spPr>
          <a:xfrm rot="5400000">
            <a:off x="4063320" y="519516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71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20840" y="2225520"/>
            <a:ext cx="6383520" cy="2104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爸   大    皮  七     飞   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自   只    次  尺      四  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" descr=""/>
          <p:cNvPicPr/>
          <p:nvPr/>
        </p:nvPicPr>
        <p:blipFill>
          <a:blip r:embed="rId3"/>
          <a:stretch/>
        </p:blipFill>
        <p:spPr>
          <a:xfrm>
            <a:off x="2397240" y="1682640"/>
            <a:ext cx="5127480" cy="3546720"/>
          </a:xfrm>
          <a:prstGeom prst="rect">
            <a:avLst/>
          </a:prstGeom>
          <a:ln w="0">
            <a:noFill/>
          </a:ln>
        </p:spPr>
      </p:pic>
      <p:sp>
        <p:nvSpPr>
          <p:cNvPr id="177" name="矩形 1127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cp:keywords/>
  <dc:language>en-US</dc:language>
  <cp:lastModifiedBy>User</cp:lastModifiedBy>
  <dcterms:modified xsi:type="dcterms:W3CDTF">2016-10-05T13:25:1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